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6623-4D8E-46E3-B12F-194A1298A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3F7A-49B0-4F63-A5D7-9B8F8C04B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17E-44C5-4494-8333-DF055689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0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808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2A38-30E3-45D6-BA4D-5693A076F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66C8-B96F-40F1-95CB-971C75D5C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3AB1-771D-4CB2-B101-CF90DCFBE2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D12D-B6DC-4562-8D70-FDD79657E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668A-EC66-4CE7-8930-11FC5629D5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B7A1-4439-4473-B3AE-9E84381CB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9000" y="-360"/>
            <a:ext cx="804204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429F-18AD-48DF-AAE5-17072471C7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FE43-04BA-44C3-A4A7-877FD5530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D5B2-22C5-4621-BA53-68036530B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05CF-FBBE-4549-89B8-6AD2305AA9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073C-DD08-408B-97B6-32A695AE6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9EB2-A039-4428-B129-8424B895F8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CE7F-6A66-4B90-BE27-D721964CF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90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68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E99B-8CD9-4059-8BC6-FD87FD73E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47E2-A639-4380-BD2D-75898073A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1E0D-A966-4CC6-AEE1-B8BBAB045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386C-3C26-4653-BBF0-D958F5B9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49000" y="-360"/>
            <a:ext cx="804204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972D-F268-4039-9F19-2479D352D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5D3B-6804-4C98-A909-013CF7AEE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A1F2-8E14-437D-9B9F-535338D46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346F-85C7-4476-B936-BBA5F5804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88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67464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2" marL="9572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3" marL="125244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4" marL="15350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5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6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07200" y="6133680"/>
            <a:ext cx="57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771-8654-4B0E-AE0B-C562841F5D05}" type="slidenum"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88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67464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2" marL="9572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3" marL="125244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4" marL="15350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5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6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8107200" y="6133680"/>
            <a:ext cx="57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6DF0-57F9-47A1-A64B-3C0E24F81667}" type="slidenum"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free_text_polls/MjcxNjIwODU1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" TargetMode="External"/><Relationship Id="rId3" Type="http://schemas.openxmlformats.org/officeDocument/2006/relationships/hyperlink" Target="http://www.prezi.com/" TargetMode="External"/><Relationship Id="rId4" Type="http://schemas.openxmlformats.org/officeDocument/2006/relationships/hyperlink" Target="http://www.follettsoftware.com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multiple_choice_polls/LTUzMTIzOTgyMw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3600" y="2070000"/>
            <a:ext cx="8416800" cy="3184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Meeting 21</a:t>
            </a:r>
            <a:r>
              <a:rPr b="0" lang="en-US" sz="3800" spc="-1" strike="noStrike" baseline="30000">
                <a:solidFill>
                  <a:srgbClr val="2c7c9f"/>
                </a:solidFill>
                <a:latin typeface="Lucida Grande"/>
              </a:rPr>
              <a:t>st</a:t>
            </a: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 Century Goals By Reimagining School Library Programs</a:t>
            </a:r>
            <a:endParaRPr b="0" lang="en-US" sz="38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3600" y="5275440"/>
            <a:ext cx="841680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Mark Ray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  <a:p>
            <a:pPr marL="396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Vancouver Public Schools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  <a:p>
            <a:pPr marL="396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Vancouver, Washington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71680"/>
            <a:ext cx="7010640" cy="28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Evolving core and extended state standard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Dynamic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 goa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Sneaking suspicion that we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re not getting the job done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46040" cy="20178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00" y="276120"/>
            <a:ext cx="805176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Stuck between AYP and 21C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9440" y="1827360"/>
            <a:ext cx="6401880" cy="4115880"/>
            <a:chOff x="379440" y="1827360"/>
            <a:chExt cx="6401880" cy="4115880"/>
          </a:xfrm>
        </p:grpSpPr>
        <p:sp>
          <p:nvSpPr>
            <p:cNvPr id="108" name=""/>
            <p:cNvSpPr/>
            <p:nvPr/>
          </p:nvSpPr>
          <p:spPr>
            <a:xfrm>
              <a:off x="379440" y="1827360"/>
              <a:ext cx="6401880" cy="4115880"/>
            </a:xfrm>
            <a:prstGeom prst="pie">
              <a:avLst/>
            </a:prstGeom>
            <a:gradFill rotWithShape="0">
              <a:gsLst>
                <a:gs pos="0">
                  <a:srgbClr val="f67309"/>
                </a:gs>
                <a:gs pos="100000">
                  <a:srgbClr val="fec3af"/>
                </a:gs>
              </a:gsLst>
              <a:lin ang="5400000"/>
            </a:gradFill>
            <a:ln w="12600">
              <a:solidFill>
                <a:srgbClr val="e272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6160" y="2362320"/>
              <a:ext cx="4526640" cy="258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11736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he technology that enables connected teaching is available now, but not all the conditions necessary to leverage it are.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0360" y="1751040"/>
            <a:ext cx="5944680" cy="4716000"/>
            <a:chOff x="2970360" y="1751040"/>
            <a:chExt cx="5944680" cy="4716000"/>
          </a:xfrm>
        </p:grpSpPr>
        <p:sp>
          <p:nvSpPr>
            <p:cNvPr id="111" name=""/>
            <p:cNvSpPr/>
            <p:nvPr/>
          </p:nvSpPr>
          <p:spPr>
            <a:xfrm>
              <a:off x="2970360" y="1751040"/>
              <a:ext cx="5944680" cy="4716000"/>
            </a:xfrm>
            <a:prstGeom prst="pie">
              <a:avLst/>
            </a:prstGeom>
            <a:gradFill rotWithShape="0">
              <a:gsLst>
                <a:gs pos="0">
                  <a:srgbClr val="84c800"/>
                </a:gs>
                <a:gs pos="100000">
                  <a:srgbClr val="cce7b3"/>
                </a:gs>
              </a:gsLst>
              <a:lin ang="5400000"/>
            </a:gradFill>
            <a:ln w="12600">
              <a:solidFill>
                <a:srgbClr val="7db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0480" y="2386080"/>
              <a:ext cx="4204080" cy="29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3240" indent="-1800">
                <a:lnSpc>
                  <a:spcPct val="100000"/>
                </a:lnSpc>
                <a:tabLst>
                  <a:tab algn="l" pos="0"/>
                  <a:tab algn="l" pos="2160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[Students’] vision is much broader than the individual technology components often described in local education technology plans and more focused on transformational changes in the learning proces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040" y="2131920"/>
            <a:ext cx="7087680" cy="4544640"/>
            <a:chOff x="608040" y="2131920"/>
            <a:chExt cx="7087680" cy="4544640"/>
          </a:xfrm>
        </p:grpSpPr>
        <p:sp>
          <p:nvSpPr>
            <p:cNvPr id="114" name=""/>
            <p:cNvSpPr/>
            <p:nvPr/>
          </p:nvSpPr>
          <p:spPr>
            <a:xfrm>
              <a:off x="608040" y="2131920"/>
              <a:ext cx="7087680" cy="4544640"/>
            </a:xfrm>
            <a:prstGeom prst="pie">
              <a:avLst/>
            </a:prstGeom>
            <a:solidFill>
              <a:srgbClr val="2c7c9f"/>
            </a:solidFill>
            <a:ln w="25560">
              <a:solidFill>
                <a:srgbClr val="1d59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46280" y="2855880"/>
              <a:ext cx="5017320" cy="25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460440" indent="-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Can classroom teachers alone, stressed by assessment testing and ever-growing paperwork burdens, help students figure this all out?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9360" y="1905120"/>
            <a:ext cx="45561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How do we make 21</a:t>
            </a:r>
            <a:r>
              <a:rPr b="0" lang="en-US" sz="32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 century learning happen with decreased funding, staffing and ability/willingness of educators to do more with less?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2535120" cy="38116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1600" y="1905120"/>
            <a:ext cx="478152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How do we begin to respond to the needs of millennial learners for interactive, collaborative and dynamic learning environments?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048120" cy="304812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Rethink school librarie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ooking past the ‘L’ word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Library, information and technology skills (LIT) are explicit in three guiding educational documents: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International Society for Technology in Education (ISTE) Educational Technology Standards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. Three standards are contained in a LIT program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Partnership for 21</a:t>
            </a:r>
            <a:r>
              <a:rPr b="1" lang="en-US" sz="2200" spc="-1" strike="noStrike" baseline="29000">
                <a:solidFill>
                  <a:srgbClr val="595959"/>
                </a:solidFill>
                <a:latin typeface="Lucida Grande"/>
              </a:rPr>
              <a:t>st</a:t>
            </a: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 Century Learning Skills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. One of the three skill domains focuses on “Information, Media and Technology Skills.”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Washington Office of the Superintendent of Public Instruction (OSPI) Educational Technology Learning Standards. 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Four of seven components align with LIT programs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Rethink school librarie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y not libraries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rogram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expressly designed to support curriculum and instruction in the schoo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rofessional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tasked with collaboration and integration with students and teacher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lac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designed to offer access to materials to support literacy, research and educational technolog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at’s the catch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828800"/>
            <a:ext cx="804204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Establish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strategic partnerships between teacher librarians and district services and administra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Expand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vision of the role of the teacher librarian and the school librar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Streamlin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resource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library operation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Bridge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the analog gap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3124080" cy="208116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Story time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1374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Four chapters (to date)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n rough chronological order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Success-in-progress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Please ask questions for clarification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708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onnect library, information and technology programs with one or more key department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IT, curriculum and instruction and/or literacy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Programs operating independently of one another; lack of trust and communication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666880" cy="368316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he Librarian Who Came In From the Cold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: Linda Turner, CIO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Bringing stakeholders togethe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Build capacity and trust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ollabor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ecta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1374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This is about success-in-progress, not software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 don’t suffer poor presentations gladly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 will use good instructional practices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Don’t expect me to say what you might think I’m going to say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4002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K-12 Destiny/Cognite implementation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Bring teacher librarians to the table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Identify leaders to work with key district personnel and co-lead initiatives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6960" y="2057400"/>
            <a:ext cx="3370320" cy="289548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Enrich and empower teacher librarians to be stronger educational leaders for students and teacher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solated successes; lack of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entury focu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Who Ya Gonna Call?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isa Greseth, Director of Instructional Technology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Different thinking to meet different need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Expanding the teacher librarian role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IT (technically, that’s an acronym)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73720" y="3174840"/>
            <a:ext cx="2286000" cy="34369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Teacher librarian as technology facilitator; teacher librarian technology training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ntinue engagement of teacher librarians through visioning, planning, training and/or implementation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9360" y="1905120"/>
            <a:ext cx="45561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Modernize operations to improve services, save money and allow teacher librarians to teach and lead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34 different servers, no sense of textbook inventory, lack of policy and procedure, 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87760" cy="35812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Putting The ‘Teacher’ Back in Teacher Libraria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ayne Curtis, Director of Curriculum and Instruc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Owning innovation and professional development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 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Creating educational leader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eacher libraria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19720" y="1905120"/>
            <a:ext cx="41716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Unified K-12 resource management; task force developing standard operating procedures; librarians talking about teaching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Review materials management policies and workflow; enhance teacher role of librarian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52680" cy="223524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Leverage millions of dollars invested in ‘analog’ resources like books, text materials and teacher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mputers and a network but no sense of purpose.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o Boldly Go Where No Library Has Gone Before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Steve Bratt, Director of Network Services, et. al.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onverge resources to support 2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entury learner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hange the way that patrons work with ideas and inform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web-enhanced classroom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Flexible Learning Environments and Cognite Technology Pilot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Assess how to better use educational resources and educators to meet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entury goal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51656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Understand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Vancouver Public Schools and the educational landscape vis à vis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, teacher librarians and strategic planning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Rethink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how library information and technology programs and teacher librarians can suppor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 initiativ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68760" cy="35816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uild strategic partnership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etween teacher librarian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nd district services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dministra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Expand vision of the role of teacher librarians and the school librar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Modernize resource and library operation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ridge the analog gap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240000"/>
            <a:ext cx="4724640" cy="30085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What one word would you use to describe school libraries or teacher librarians?</a:t>
            </a: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000" y="2743200"/>
            <a:ext cx="804204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First enter the number: 92691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hen enter a word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hen send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ing with solution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Key resource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3"/>
              </a:rPr>
              <a:t>Prezi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Follettsoftwa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oogle “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librarian-provocateur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808200" indent="-4194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Not to be confused with “Agent Provocateur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808200" indent="-4194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rticle links, etc. are listed under “NSBA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mark.ray@vansd.org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Se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how systemic thinking and investments can support these initiativ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Leav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with four steps to leverage libraries and teacher librarians to mee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need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2590560" cy="3884400"/>
          </a:xfrm>
          <a:prstGeom prst="rect">
            <a:avLst/>
          </a:prstGeom>
          <a:ln w="0">
            <a:noFill/>
          </a:ln>
          <a:effectLst>
            <a:outerShdw dist="126988" dir="7803308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Formative assessmen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50893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et out your cell phon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In my presentation, you can leave them on “vibrate.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Prepare to text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You may have to switch from T9 to 123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692440" cy="40388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What is your current perception of school libraries?</a:t>
            </a: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ssential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can't imagine a school without them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4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phemeral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'm not sure how they fit into a 21st century school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5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rstwhile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don't think they realize it's almost 2011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6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xpendable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can't afford them.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7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o am I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95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acher librarian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Skyview HS et. al.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chnology facilitator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Vancouver Public School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Rabble rouser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Blog: Librarian Provocateu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Project LIT founding membe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Plays well with administrators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Collaborations with HR, curriculum, IT, planning, facility design and higher educ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o is VPS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11520" y="1752480"/>
            <a:ext cx="455616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We are not Vancouver, CA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21,000 student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33 school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21/6/4/2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ncreasing diversity and poverty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ncurrent years of significant budget shortfall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0960" y="2057400"/>
            <a:ext cx="3592440" cy="2514600"/>
          </a:xfrm>
          <a:prstGeom prst="rect">
            <a:avLst/>
          </a:prstGeom>
          <a:ln w="0">
            <a:noFill/>
          </a:ln>
          <a:effectLst>
            <a:outerShdw dist="127137" dir="7137603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47847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earish budgetary outlook at all leve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Continued pressure from national/state benchmark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rowing private and public online and alternative competi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2462040" cy="36576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ial User</dc:creator>
  <dc:description/>
  <dc:language>en-US</dc:language>
  <cp:lastModifiedBy/>
  <cp:revision>0</cp:revision>
  <dc:subject/>
  <dc:title>Leveraging School Libraries</dc:title>
</cp:coreProperties>
</file>